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68F-B30B-4833-877E-0AC720D9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037-AD58-47FD-AB1F-DFC90778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861-8D3D-49DD-AA8F-2B440A5C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231-701D-4D3B-B88F-82DF1B7B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1C2-D4D9-4E06-98EB-4DB8F56E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5C1-2114-4C29-B15F-82F96BAA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3D1-EB5C-4B16-8A2F-8AC8A953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2DB-9869-4E03-B964-B78A3044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14F-26F0-4563-8B62-286B2EE1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1716-DB6D-48B0-9CFA-F96DC81E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417-4046-49DF-B7CB-927FD3C1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1E9-F8D8-40A0-A068-9368252D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151A-C343-46C8-AB95-CAB2B5F75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05080" y="2200320"/>
          <a:ext cx="2647800" cy="19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5080" y="2200320"/>
                    <a:ext cx="264780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021720" y="25884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867040" y="4057560"/>
            <a:ext cx="0" cy="7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381480" y="405756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886200" y="405756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00640" y="405756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352600" y="39434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352600" y="3743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352600" y="35528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52600" y="3371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352600" y="31910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352600" y="30002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352600" y="28004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352600" y="26193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52600" y="2428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90280" y="4419720"/>
            <a:ext cx="174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s Post Anthesis (DP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770400" y="3053160"/>
            <a:ext cx="21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verage fresh weight/kernel (m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07560" y="42163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22000" y="42163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26720" y="42163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31800" y="42163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36520" y="42163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0920" y="4216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68920" y="40356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21760" y="36576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74600" y="214632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18520" y="328284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1760" y="290844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18520" y="253368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29760" y="22860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828800" y="1654200"/>
            <a:ext cx="3453480" cy="2691720"/>
            <a:chOff x="1828800" y="1654200"/>
            <a:chExt cx="3453480" cy="2691720"/>
          </a:xfrm>
        </p:grpSpPr>
        <p:graphicFrame>
          <p:nvGraphicFramePr>
            <p:cNvPr id="73" name=""/>
            <p:cNvGraphicFramePr/>
            <p:nvPr/>
          </p:nvGraphicFramePr>
          <p:xfrm>
            <a:off x="2282760" y="1695600"/>
            <a:ext cx="2936880" cy="222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2760" y="1695600"/>
                      <a:ext cx="2936880" cy="22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 flipV="1">
              <a:off x="2916360" y="37720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486240" y="37720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046400" y="37720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616280" y="37720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344680" y="3419640"/>
              <a:ext cx="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344680" y="3005280"/>
              <a:ext cx="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344680" y="2589120"/>
              <a:ext cx="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344680" y="2163600"/>
              <a:ext cx="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63440" y="4114800"/>
              <a:ext cx="160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ays Post Anthesis (DPA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948600" y="2705760"/>
              <a:ext cx="199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verage fresh weight/kernel (mg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39240" y="3886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09120" y="3886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69640" y="3886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30160" y="3886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88880" y="3886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10040" y="38862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22920" y="37465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66400" y="332424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09520" y="1654200"/>
              <a:ext cx="34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66400" y="2905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66400" y="248616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66400" y="206676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729760" y="22860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2760" y="1695600"/>
          <a:ext cx="2936880" cy="222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1695600"/>
                    <a:ext cx="293688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862000" y="4114800"/>
            <a:ext cx="152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s Post Anthesis (DP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1007280" y="2763720"/>
            <a:ext cx="187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erage fresh weight/kernel (m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8960" y="3886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37920" y="3886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8720" y="3886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8600" y="3886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88880" y="3886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10040" y="3886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22920" y="3746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66400" y="332424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09520" y="167328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66400" y="2905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66400" y="2486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66400" y="20667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44680" y="342900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43240" y="300996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41440" y="259092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217188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914560" y="3809880"/>
            <a:ext cx="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86240" y="3809880"/>
            <a:ext cx="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038480" y="3811680"/>
            <a:ext cx="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10160" y="3811680"/>
            <a:ext cx="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7:55:15Z</dcterms:created>
  <dc:creator>Registered User</dc:creator>
  <dc:description/>
  <dc:language>en-US</dc:language>
  <cp:lastModifiedBy>Office 2003 Registered User</cp:lastModifiedBy>
  <dcterms:modified xsi:type="dcterms:W3CDTF">2007-10-05T16:06:49Z</dcterms:modified>
  <cp:revision>29</cp:revision>
  <dc:subject/>
  <dc:title>PowerPoint Presentation</dc:title>
</cp:coreProperties>
</file>